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8E9-E170-40C8-A1BA-E6546C69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F81-DF0D-4641-ADBD-CF670E81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FFF-2037-444A-9B11-F03BF8A5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E04-1B69-4114-BD06-D0659CCB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ECE-0B54-4C1A-BE65-8F71233A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944-F4B8-4042-AF00-9157ECF7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B94-4DCE-44CA-8F30-09359B05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BD9-E997-425B-B7CC-6083A893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5EA-AA52-4C91-9769-7C6E374E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61B6-9F97-415E-9715-3A486A58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A4D-6857-4EFF-8803-C0C517F7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2DB4-619D-4B10-9DA4-2C92C6C5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E4F0-277B-4C98-9A98-3A2147C5B94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371600" y="1676520"/>
                <a:ext cx="7010280" cy="44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heck for non-normal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where 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the pdf of 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or  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the p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 percentile of N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If 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θ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then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θ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et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b>
                        </m:sSub>
                        <m:r>
                          <m:t xml:space="preserve">&lt;</m:t>
                        </m:r>
                        <m:r>
                          <m:t xml:space="preserve">⋯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θ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igure2a.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09480"/>
            <a:ext cx="91440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igure2a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figure2a.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30492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igure2a.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52280"/>
            <a:ext cx="9144000" cy="4940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48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igure2a.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57200"/>
            <a:ext cx="9144000" cy="494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igure2.6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able2.5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figure2.7" descr=""/>
          <p:cNvPicPr/>
          <p:nvPr/>
        </p:nvPicPr>
        <p:blipFill>
          <a:blip r:embed="rId1"/>
          <a:stretch/>
        </p:blipFill>
        <p:spPr>
          <a:xfrm>
            <a:off x="2133720" y="0"/>
            <a:ext cx="437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igure2.8" descr=""/>
          <p:cNvPicPr/>
          <p:nvPr/>
        </p:nvPicPr>
        <p:blipFill>
          <a:blip r:embed="rId1"/>
          <a:stretch/>
        </p:blipFill>
        <p:spPr>
          <a:xfrm>
            <a:off x="2286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igure2.9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066680" y="1600200"/>
                <a:ext cx="7363080" cy="38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t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against  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eed normal probability paper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lot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against   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orma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or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plot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-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can be replaced by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5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Shapes for normal plo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143000" y="441972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638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ig.2a.1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a.2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2a.3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2a.4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2a.5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2a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mal Plot-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23880" y="3325680"/>
                <a:ext cx="3354480" cy="17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1 : Steam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1 : Lack of fit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523880" y="1600200"/>
                <a:ext cx="4087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lot normal score of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 against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5410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ig2a.5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fig2a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206360" y="1955880"/>
                <a:ext cx="7340760" cy="38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General checking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plot 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against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  <m:r>
                      <m:rPr>
                        <m:lit/>
                        <m:nor/>
                      </m:rPr>
                      <m:t xml:space="preserve">                    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,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Residual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is correlated to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   The LSE fit of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gains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produces</m:t>
                    </m:r>
                    <m:r>
                      <m:rPr>
                        <m:lit/>
                        <m:nor/>
                      </m:rPr>
                      <m:t xml:space="preserve">             a slope of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gains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produces a series of lines with slope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References in section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 is helpful for formal tests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20680" y="33796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943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Fig2.6        table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-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776240" y="2057400"/>
                <a:ext cx="345600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1 : Steam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1 : Lack of fit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,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267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2.7    2.8     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104920" y="1676520"/>
                <a:ext cx="5362560" cy="46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ction of 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order autocorrel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ρ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-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where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iid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j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and   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j</m:t>
                                </m:r>
                              </m:e>
                            </m:d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438280" y="33796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76520" y="1523880"/>
                <a:ext cx="6248160" cy="477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Durbin-Watso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-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est is designed to t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D-W statistic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is symmetric about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≈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 if </m:t>
                        </m:r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 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d</m:t>
                            </m:r>
                            <m:r>
                              <m:t xml:space="preserve">≈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523880" y="49798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828800" y="1676520"/>
                <a:ext cx="619776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Conclude 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Conclude  </m:t>
                        </m:r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-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 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d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or 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-d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clare test inconclusive  if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figure2a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09-30T01:04:34Z</dcterms:modified>
  <cp:revision>8</cp:revision>
  <dc:subject/>
  <dc:title>PowerPoint 簡報</dc:title>
</cp:coreProperties>
</file>